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691813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938376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5160" y="4646520"/>
            <a:ext cx="938376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03680" y="183024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5160" y="464652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03680" y="464652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302148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8200" y="1830240"/>
            <a:ext cx="302148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40880" y="1830240"/>
            <a:ext cx="302148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5160" y="4646520"/>
            <a:ext cx="302148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68200" y="4646520"/>
            <a:ext cx="302148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40880" y="4646520"/>
            <a:ext cx="302148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5160" y="1830240"/>
            <a:ext cx="938376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938376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457920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03680" y="1830240"/>
            <a:ext cx="457920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7680" y="242640"/>
            <a:ext cx="9673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03680" y="1830240"/>
            <a:ext cx="457920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5160" y="464652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457920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03680" y="183024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03680" y="464652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03680" y="1830240"/>
            <a:ext cx="457920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5160" y="4646520"/>
            <a:ext cx="938376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6720" y="7365960"/>
            <a:ext cx="10979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5070600"/>
                <a:tab algn="l" pos="10167840"/>
              </a:tabLst>
            </a:pPr>
            <a:r>
              <a:rPr b="0" lang="en-GB" sz="1400" spc="-1" strike="noStrike">
                <a:solidFill>
                  <a:srgbClr val="99ccff"/>
                </a:solidFill>
                <a:latin typeface="Arial"/>
                <a:ea typeface="HG Mincho Light J"/>
              </a:rPr>
              <a:t>Pierre LOMBARD</a:t>
            </a:r>
            <a:r>
              <a:rPr b="0" lang="en-GB" sz="1400" spc="-1" strike="noStrike">
                <a:solidFill>
                  <a:srgbClr val="99ccff"/>
                </a:solidFill>
                <a:latin typeface="Arial"/>
                <a:ea typeface="HG Mincho Light J"/>
              </a:rPr>
              <a:t>	</a:t>
            </a:r>
            <a:r>
              <a:rPr b="0" lang="en-GB" sz="1400" spc="-1" strike="noStrike">
                <a:solidFill>
                  <a:srgbClr val="99ccff"/>
                </a:solidFill>
                <a:latin typeface="Arial"/>
                <a:ea typeface="HG Mincho Light J"/>
              </a:rPr>
              <a:t>NFSP</a:t>
            </a:r>
            <a:r>
              <a:rPr b="0" lang="en-GB" sz="1400" spc="-1" strike="noStrike">
                <a:solidFill>
                  <a:srgbClr val="99ccff"/>
                </a:solidFill>
                <a:latin typeface="Arial"/>
                <a:ea typeface="HG Mincho Light J"/>
              </a:rPr>
              <a:t>	</a:t>
            </a:r>
            <a:fld id="{AE2971FD-6AB7-40D8-958A-78A4324A8957}" type="slidenum">
              <a:rPr b="0" lang="en-GB" sz="1400" spc="-1" strike="noStrike">
                <a:solidFill>
                  <a:srgbClr val="99ccff"/>
                </a:solidFill>
                <a:latin typeface="Arial"/>
                <a:ea typeface="HG Mincho Light J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;Helvetica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95160" y="1830240"/>
            <a:ext cx="938376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;Helvetic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;Helvetic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2" marL="107964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;Helvetic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3" marL="136692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;Helvetic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4" marL="1655640" indent="-43164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;Helvetic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5" marL="1655640" indent="-43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;Helvetic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6" marL="1655640" indent="-43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;Helvetic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534960"/>
            <a:ext cx="96757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P: serveur NFS distribué</a:t>
            </a:r>
            <a:br>
              <a:rPr sz="4400"/>
            </a:b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pour grappes de PCs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1120" y="2063520"/>
            <a:ext cx="9385200" cy="47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100" spc="-1" strike="noStrike" u="sng">
                <a:solidFill>
                  <a:srgbClr val="ffffff"/>
                </a:solidFill>
                <a:uFillTx/>
                <a:latin typeface="Arial"/>
                <a:ea typeface="HG Mincho Light J"/>
              </a:rPr>
              <a:t>Pierre LOMBAR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  <a:ea typeface="HG Mincho Light J"/>
              </a:rPr>
              <a:t>Yves DENNEUL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  <a:ea typeface="HG Mincho Light J"/>
              </a:rPr>
              <a:t>Laboratoire ID-IMA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  <a:ea typeface="HG Mincho Light J"/>
              </a:rPr>
              <a:t>ASF200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0" y="6858000"/>
            <a:ext cx="10709280" cy="731880"/>
            <a:chOff x="0" y="6858000"/>
            <a:chExt cx="10709280" cy="731880"/>
          </a:xfrm>
        </p:grpSpPr>
        <p:sp>
          <p:nvSpPr>
            <p:cNvPr id="42" name=""/>
            <p:cNvSpPr/>
            <p:nvPr/>
          </p:nvSpPr>
          <p:spPr>
            <a:xfrm>
              <a:off x="0" y="6858000"/>
              <a:ext cx="10709280" cy="731880"/>
            </a:xfrm>
            <a:prstGeom prst="roundRect">
              <a:avLst>
                <a:gd name="adj" fmla="val 21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255400" y="6870240"/>
              <a:ext cx="1841040" cy="7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433040" y="6870240"/>
              <a:ext cx="1842840" cy="7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8688600" y="6870240"/>
              <a:ext cx="1841040" cy="7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177480" y="6870240"/>
              <a:ext cx="1740960" cy="7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6610680" y="6870240"/>
              <a:ext cx="1741320" cy="705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p: Mais...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garder la compatibilité NFS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le client ne connaît qu'un seul serveur: </a:t>
            </a:r>
            <a:br>
              <a:rPr sz="3200"/>
            </a:br>
            <a:r>
              <a:rPr b="0" i="1" lang="en-GB" sz="3200" spc="-1" strike="noStrike">
                <a:solidFill>
                  <a:srgbClr val="ffffff"/>
                </a:solidFill>
                <a:latin typeface="Arial;Helvetica"/>
              </a:rPr>
              <a:t>(IP src:port src:IP dest:port dest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=&gt; repasser par le serveur ?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=&gt; traffic inutile: surcharge des liens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Or... UDP = IP + port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pas de connexion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l’iod va </a:t>
            </a:r>
            <a:r>
              <a:rPr b="0" i="1" lang="en-GB" sz="3200" spc="-1" strike="noStrike">
                <a:solidFill>
                  <a:srgbClr val="ffffff"/>
                </a:solidFill>
                <a:latin typeface="Arial;Helvetica"/>
              </a:rPr>
              <a:t>spoofer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 la réponse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p: </a:t>
            </a:r>
            <a:r>
              <a:rPr b="0" i="1" lang="en-GB" sz="4400" spc="-1" strike="noStrike">
                <a:solidFill>
                  <a:srgbClr val="ff9966"/>
                </a:solidFill>
                <a:latin typeface="Arial;Helvetica"/>
              </a:rPr>
              <a:t>spoofing</a:t>
            </a: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 UDP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;Helvetica"/>
              </a:rPr>
              <a:t>spoofing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: émission d’un paquet avec une adresse IP différente de l’adresse IP “configurée” pour l’interface réseau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les serveurs d'E/S vont émettre des datagrammes UDP correspondant au </a:t>
            </a:r>
            <a:r>
              <a:rPr b="0" i="1" lang="en-GB" sz="3600" spc="-1" strike="noStrike">
                <a:solidFill>
                  <a:srgbClr val="ffffff"/>
                </a:solidFill>
                <a:latin typeface="Arial;Helvetica"/>
              </a:rPr>
              <a:t>tuple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:</a:t>
            </a:r>
            <a:br>
              <a:rPr sz="3600"/>
            </a:br>
            <a:r>
              <a:rPr b="0" i="1" lang="en-GB" sz="3600" spc="-1" strike="noStrike">
                <a:solidFill>
                  <a:srgbClr val="ffffff"/>
                </a:solidFill>
                <a:latin typeface="Arial;Helvetica"/>
              </a:rPr>
              <a:t> (IP src:port src:IP dest:port dest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le client va croire que le serveur lui répond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p: READ NFS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76600" y="4467240"/>
            <a:ext cx="231948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4400" y="2409840"/>
            <a:ext cx="231948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fs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75400" y="3736800"/>
            <a:ext cx="146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12240" y="3484440"/>
            <a:ext cx="146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09640" y="3144600"/>
            <a:ext cx="1963800" cy="1414440"/>
          </a:xfrm>
          <a:prstGeom prst="roundRect">
            <a:avLst>
              <a:gd name="adj" fmla="val 10106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Req. REA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(fichier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offset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taille, ..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1"/>
            <a:endCxn id="122" idx="1"/>
          </p:cNvCxnSpPr>
          <p:nvPr/>
        </p:nvCxnSpPr>
        <p:spPr>
          <a:xfrm rot="10800000">
            <a:off x="4423680" y="2645640"/>
            <a:ext cx="54720" cy="2057760"/>
          </a:xfrm>
          <a:prstGeom prst="curvedConnector5">
            <a:avLst>
              <a:gd name="adj1" fmla="val 49668"/>
              <a:gd name="adj2" fmla="val 49991"/>
              <a:gd name="adj3" fmla="val 49668"/>
            </a:avLst>
          </a:prstGeom>
          <a:ln w="54720">
            <a:solidFill>
              <a:srgbClr val="c0c0c0"/>
            </a:solidFill>
            <a:miter/>
            <a:tailEnd len="lg" type="triangle" w="lg"/>
          </a:ln>
        </p:spPr>
      </p:cxnSp>
      <p:cxnSp>
        <p:nvCxnSpPr>
          <p:cNvPr id="127" name=""/>
          <p:cNvCxnSpPr>
            <a:stCxn id="122" idx="3"/>
            <a:endCxn id="121" idx="3"/>
          </p:cNvCxnSpPr>
          <p:nvPr/>
        </p:nvCxnSpPr>
        <p:spPr>
          <a:xfrm>
            <a:off x="6742080" y="2646000"/>
            <a:ext cx="54720" cy="2057760"/>
          </a:xfrm>
          <a:prstGeom prst="curvedConnector5">
            <a:avLst>
              <a:gd name="adj1" fmla="val 49668"/>
              <a:gd name="adj2" fmla="val 49991"/>
              <a:gd name="adj3" fmla="val 49668"/>
            </a:avLst>
          </a:prstGeom>
          <a:ln w="54720">
            <a:solidFill>
              <a:srgbClr val="c0c0c0"/>
            </a:solidFill>
            <a:miter/>
            <a:tailEnd len="lg" type="triangle" w="lg"/>
          </a:ln>
        </p:spPr>
      </p:cxnSp>
      <p:sp>
        <p:nvSpPr>
          <p:cNvPr id="128" name=""/>
          <p:cNvSpPr/>
          <p:nvPr/>
        </p:nvSpPr>
        <p:spPr>
          <a:xfrm>
            <a:off x="7516800" y="3340080"/>
            <a:ext cx="1998720" cy="749160"/>
          </a:xfrm>
          <a:prstGeom prst="roundRect">
            <a:avLst>
              <a:gd name="adj" fmla="val 19023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Rep. REA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MD + 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84240" y="7012440"/>
            <a:ext cx="2014560" cy="470520"/>
          </a:xfrm>
          <a:prstGeom prst="roundRect">
            <a:avLst>
              <a:gd name="adj" fmla="val 50000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NFS/U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19400" y="7011000"/>
            <a:ext cx="2043360" cy="470520"/>
          </a:xfrm>
          <a:prstGeom prst="roundRect">
            <a:avLst>
              <a:gd name="adj" fmla="val 50000"/>
            </a:avLst>
          </a:prstGeom>
          <a:solidFill>
            <a:srgbClr val="6b23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IOD/U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p: réponse NFS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76840" y="3617280"/>
            <a:ext cx="2878200" cy="998280"/>
          </a:xfrm>
          <a:prstGeom prst="roundRect">
            <a:avLst>
              <a:gd name="adj" fmla="val 6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F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ttributs(=M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onnees(=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56200" y="3450600"/>
            <a:ext cx="1522440" cy="1331640"/>
          </a:xfrm>
          <a:prstGeom prst="roundRect">
            <a:avLst>
              <a:gd name="adj" fmla="val 10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P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xi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u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35200" y="3450600"/>
            <a:ext cx="1522440" cy="1331640"/>
          </a:xfrm>
          <a:prstGeom prst="roundRect">
            <a:avLst>
              <a:gd name="adj" fmla="val 102"/>
            </a:avLst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ort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our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e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14560" y="3450600"/>
            <a:ext cx="1522440" cy="1331640"/>
          </a:xfrm>
          <a:prstGeom prst="roundRect">
            <a:avLst>
              <a:gd name="adj" fmla="val 102"/>
            </a:avLst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dresse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our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e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30400" y="5821200"/>
            <a:ext cx="1485720" cy="0"/>
            <a:chOff x="2030400" y="5821200"/>
            <a:chExt cx="1485720" cy="0"/>
          </a:xfrm>
        </p:grpSpPr>
        <p:sp>
          <p:nvSpPr>
            <p:cNvPr id="138" name=""/>
            <p:cNvSpPr/>
            <p:nvPr/>
          </p:nvSpPr>
          <p:spPr>
            <a:xfrm>
              <a:off x="2030400" y="5821200"/>
              <a:ext cx="1485720" cy="0"/>
            </a:xfrm>
            <a:prstGeom prst="line">
              <a:avLst/>
            </a:prstGeom>
            <a:ln w="54720">
              <a:solidFill>
                <a:srgbClr val="ffff66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0" y="0"/>
              <a:ext cx="0" cy="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ctr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66"/>
                  </a:solidFill>
                  <a:latin typeface="Times New Roman"/>
                  <a:ea typeface="HG Mincho Light J"/>
                </a:rPr>
                <a:t>20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557520" y="5823000"/>
            <a:ext cx="1486080" cy="0"/>
            <a:chOff x="3557520" y="5823000"/>
            <a:chExt cx="1486080" cy="0"/>
          </a:xfrm>
        </p:grpSpPr>
        <p:sp>
          <p:nvSpPr>
            <p:cNvPr id="141" name=""/>
            <p:cNvSpPr/>
            <p:nvPr/>
          </p:nvSpPr>
          <p:spPr>
            <a:xfrm>
              <a:off x="3557520" y="5823000"/>
              <a:ext cx="1486080" cy="0"/>
            </a:xfrm>
            <a:prstGeom prst="line">
              <a:avLst/>
            </a:prstGeom>
            <a:ln w="54720">
              <a:solidFill>
                <a:srgbClr val="ffff66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0" y="0"/>
              <a:ext cx="0" cy="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ctr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66"/>
                  </a:solidFill>
                  <a:latin typeface="Times New Roman"/>
                  <a:ea typeface="HG Mincho Light J"/>
                </a:rPr>
                <a:t>8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099040" y="5824440"/>
            <a:ext cx="1485720" cy="0"/>
            <a:chOff x="5099040" y="5824440"/>
            <a:chExt cx="1485720" cy="0"/>
          </a:xfrm>
        </p:grpSpPr>
        <p:sp>
          <p:nvSpPr>
            <p:cNvPr id="144" name=""/>
            <p:cNvSpPr/>
            <p:nvPr/>
          </p:nvSpPr>
          <p:spPr>
            <a:xfrm>
              <a:off x="5099040" y="5824440"/>
              <a:ext cx="1485720" cy="0"/>
            </a:xfrm>
            <a:prstGeom prst="line">
              <a:avLst/>
            </a:prstGeom>
            <a:ln w="54720">
              <a:solidFill>
                <a:srgbClr val="ffff66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0" y="0"/>
              <a:ext cx="0" cy="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ctr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66"/>
                  </a:solidFill>
                  <a:latin typeface="Times New Roman"/>
                  <a:ea typeface="HG Mincho Light J"/>
                </a:rPr>
                <a:t>24+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642000" y="5826240"/>
            <a:ext cx="2801880" cy="0"/>
            <a:chOff x="6642000" y="5826240"/>
            <a:chExt cx="2801880" cy="0"/>
          </a:xfrm>
        </p:grpSpPr>
        <p:sp>
          <p:nvSpPr>
            <p:cNvPr id="147" name=""/>
            <p:cNvSpPr/>
            <p:nvPr/>
          </p:nvSpPr>
          <p:spPr>
            <a:xfrm>
              <a:off x="6642000" y="5826240"/>
              <a:ext cx="2801880" cy="0"/>
            </a:xfrm>
            <a:prstGeom prst="line">
              <a:avLst/>
            </a:prstGeom>
            <a:ln w="54720">
              <a:solidFill>
                <a:srgbClr val="ffff66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0" y="0"/>
              <a:ext cx="0" cy="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ctr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66"/>
                  </a:solidFill>
                  <a:latin typeface="Times New Roman"/>
                  <a:ea typeface="HG Mincho Light J"/>
                </a:rPr>
                <a:t>76+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p: READ  « simple »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5360" y="6381720"/>
            <a:ext cx="231912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0000" y="1808640"/>
            <a:ext cx="231948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fsp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51760" y="1916640"/>
            <a:ext cx="231948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o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32520" y="3736800"/>
            <a:ext cx="146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2680" y="2155680"/>
            <a:ext cx="146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85720" y="5249880"/>
            <a:ext cx="146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43120" y="4459320"/>
            <a:ext cx="1963800" cy="1414440"/>
          </a:xfrm>
          <a:prstGeom prst="roundRect">
            <a:avLst>
              <a:gd name="adj" fmla="val 10106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Req. REA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(fichier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offset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taille, ..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1" idx="0"/>
            <a:endCxn id="152" idx="2"/>
          </p:cNvCxnSpPr>
          <p:nvPr/>
        </p:nvCxnSpPr>
        <p:spPr>
          <a:xfrm rot="10800000">
            <a:off x="3229920" y="2313720"/>
            <a:ext cx="765720" cy="4031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720">
            <a:solidFill>
              <a:srgbClr val="c0c0c0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52" idx="3"/>
            <a:endCxn id="153" idx="1"/>
          </p:cNvCxnSpPr>
          <p:nvPr/>
        </p:nvCxnSpPr>
        <p:spPr>
          <a:xfrm>
            <a:off x="4389120" y="2043000"/>
            <a:ext cx="3663000" cy="108720"/>
          </a:xfrm>
          <a:prstGeom prst="curvedConnector5">
            <a:avLst>
              <a:gd name="adj1" fmla="val 50000"/>
              <a:gd name="adj2" fmla="val 49833"/>
              <a:gd name="adj3" fmla="val 50000"/>
            </a:avLst>
          </a:prstGeom>
          <a:ln w="54720">
            <a:solidFill>
              <a:srgbClr val="c0c0c0"/>
            </a:solidFill>
            <a:miter/>
            <a:tailEnd len="lg" type="triangle" w="lg"/>
          </a:ln>
        </p:spPr>
      </p:cxnSp>
      <p:cxnSp>
        <p:nvCxnSpPr>
          <p:cNvPr id="160" name=""/>
          <p:cNvCxnSpPr>
            <a:stCxn id="153" idx="2"/>
            <a:endCxn id="151" idx="3"/>
          </p:cNvCxnSpPr>
          <p:nvPr/>
        </p:nvCxnSpPr>
        <p:spPr>
          <a:xfrm flipV="1" rot="10800000">
            <a:off x="5153760" y="2421720"/>
            <a:ext cx="4056480" cy="4194720"/>
          </a:xfrm>
          <a:prstGeom prst="curvedConnector5">
            <a:avLst>
              <a:gd name="adj1" fmla="val 49995"/>
              <a:gd name="adj2" fmla="val 49995"/>
              <a:gd name="adj3" fmla="val 49995"/>
            </a:avLst>
          </a:prstGeom>
          <a:ln w="54720">
            <a:solidFill>
              <a:srgbClr val="c0c0c0"/>
            </a:solidFill>
            <a:miter/>
            <a:tailEnd len="lg" type="triangle" w="lg"/>
          </a:ln>
        </p:spPr>
      </p:cxnSp>
      <p:sp>
        <p:nvSpPr>
          <p:cNvPr id="161" name=""/>
          <p:cNvSpPr/>
          <p:nvPr/>
        </p:nvSpPr>
        <p:spPr>
          <a:xfrm>
            <a:off x="5068800" y="2575440"/>
            <a:ext cx="2692440" cy="759240"/>
          </a:xfrm>
          <a:prstGeom prst="roundRect">
            <a:avLst>
              <a:gd name="adj" fmla="val 21157"/>
            </a:avLst>
          </a:prstGeom>
          <a:solidFill>
            <a:srgbClr val="6b23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Req. READ + M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+ info. 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4760" y="6056280"/>
            <a:ext cx="1998720" cy="749160"/>
          </a:xfrm>
          <a:prstGeom prst="roundRect">
            <a:avLst>
              <a:gd name="adj" fmla="val 19023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Rep. REA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MD + 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84240" y="7003440"/>
            <a:ext cx="2014560" cy="470520"/>
          </a:xfrm>
          <a:prstGeom prst="roundRect">
            <a:avLst>
              <a:gd name="adj" fmla="val 50000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NFS/U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7003080"/>
            <a:ext cx="2043360" cy="470520"/>
          </a:xfrm>
          <a:prstGeom prst="roundRect">
            <a:avLst>
              <a:gd name="adj" fmla="val 50000"/>
            </a:avLst>
          </a:prstGeom>
          <a:solidFill>
            <a:srgbClr val="6b23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IOD/U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p: READ aux « limites »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5440" y="6103800"/>
            <a:ext cx="231948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6800" y="2627280"/>
            <a:ext cx="231912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nfsp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45320" y="2395440"/>
            <a:ext cx="231948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od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0320" y="5370480"/>
            <a:ext cx="231948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iod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38720" y="3719520"/>
            <a:ext cx="146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67520" y="2984400"/>
            <a:ext cx="146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71080" y="3308400"/>
            <a:ext cx="146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88440" y="5794200"/>
            <a:ext cx="146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0840" y="4365720"/>
            <a:ext cx="1963440" cy="1414440"/>
          </a:xfrm>
          <a:prstGeom prst="roundRect">
            <a:avLst>
              <a:gd name="adj" fmla="val 10106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Req. REA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(fichier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offset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taille, ..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18360" y="6498720"/>
            <a:ext cx="3233520" cy="749160"/>
          </a:xfrm>
          <a:prstGeom prst="roundRect">
            <a:avLst>
              <a:gd name="adj" fmla="val 19023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Rep. REA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MD + D (iod1+iod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37080" y="1727640"/>
            <a:ext cx="2692440" cy="759240"/>
          </a:xfrm>
          <a:prstGeom prst="roundRect">
            <a:avLst>
              <a:gd name="adj" fmla="val 21157"/>
            </a:avLst>
          </a:prstGeom>
          <a:solidFill>
            <a:srgbClr val="6b23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Req. READ + M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+ info. 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67" idx="0"/>
            <a:endCxn id="168" idx="2"/>
          </p:cNvCxnSpPr>
          <p:nvPr/>
        </p:nvCxnSpPr>
        <p:spPr>
          <a:xfrm rot="10800000">
            <a:off x="3364920" y="3133080"/>
            <a:ext cx="459360" cy="29343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8" idx="3"/>
            <a:endCxn id="169" idx="1"/>
          </p:cNvCxnSpPr>
          <p:nvPr/>
        </p:nvCxnSpPr>
        <p:spPr>
          <a:xfrm flipV="1">
            <a:off x="4525920" y="2629800"/>
            <a:ext cx="3121920" cy="23076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9" idx="2"/>
            <a:endCxn id="170" idx="0"/>
          </p:cNvCxnSpPr>
          <p:nvPr/>
        </p:nvCxnSpPr>
        <p:spPr>
          <a:xfrm>
            <a:off x="8804160" y="2903400"/>
            <a:ext cx="137520" cy="2431440"/>
          </a:xfrm>
          <a:prstGeom prst="curvedConnector5">
            <a:avLst>
              <a:gd name="adj1" fmla="val 49868"/>
              <a:gd name="adj2" fmla="val 49992"/>
              <a:gd name="adj3" fmla="val 49868"/>
            </a:avLst>
          </a:prstGeom>
          <a:ln w="54720">
            <a:solidFill>
              <a:srgbClr val="c0c0c0"/>
            </a:solidFill>
            <a:miter/>
            <a:tailEnd len="lg" type="triangle" w="lg"/>
          </a:ln>
        </p:spPr>
      </p:cxnSp>
      <p:cxnSp>
        <p:nvCxnSpPr>
          <p:cNvPr id="181" name=""/>
          <p:cNvCxnSpPr>
            <a:stCxn id="170" idx="2"/>
            <a:endCxn id="167" idx="3"/>
          </p:cNvCxnSpPr>
          <p:nvPr/>
        </p:nvCxnSpPr>
        <p:spPr>
          <a:xfrm flipV="1" rot="10800000">
            <a:off x="4984200" y="5876640"/>
            <a:ext cx="3956760" cy="464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5637240" y="3797640"/>
            <a:ext cx="3116160" cy="1097640"/>
          </a:xfrm>
          <a:prstGeom prst="roundRect">
            <a:avLst>
              <a:gd name="adj" fmla="val 15477"/>
            </a:avLst>
          </a:prstGeom>
          <a:solidFill>
            <a:srgbClr val="6b23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Req. READ + MD 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+ info. 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 </a:t>
            </a: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+ D(iod1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84240" y="7012440"/>
            <a:ext cx="2014560" cy="470520"/>
          </a:xfrm>
          <a:prstGeom prst="roundRect">
            <a:avLst>
              <a:gd name="adj" fmla="val 50000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NFS/U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19400" y="7011000"/>
            <a:ext cx="2043360" cy="470520"/>
          </a:xfrm>
          <a:prstGeom prst="roundRect">
            <a:avLst>
              <a:gd name="adj" fmla="val 50000"/>
            </a:avLst>
          </a:prstGeom>
          <a:solidFill>
            <a:srgbClr val="6b23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IOD/U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p: Autres requêtes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WRITE: même fonctionnement que le READ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requêtes simples sur les MD gérées directement par le nfspd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mv, ls, readlink(), stat() ...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effacement 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nfspd utilise un unlinkd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unlinkd communique avec iods (TCP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Implémentation du nfspd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8240" indent="-42768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nfspd: Linux User Mode NFS Server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498240" indent="-42768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code monothreadé (éventuellement fork()-é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498240" indent="-42768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;Helvetica"/>
              </a:rPr>
              <a:t>wrappers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 pour la manipulation des MD (stat()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498240" indent="-42768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Arial;Helvetica"/>
              </a:rPr>
              <a:t>wrappers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 pour les fonctions spéciales (read()/write()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498240" indent="-42768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démon d'effacement unlinkd (</a:t>
            </a:r>
            <a:r>
              <a:rPr b="0" i="1" lang="en-GB" sz="3600" spc="-1" strike="noStrike">
                <a:solidFill>
                  <a:srgbClr val="ffffff"/>
                </a:solidFill>
                <a:latin typeface="Arial;Helvetica"/>
              </a:rPr>
              <a:t>pipe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 Un*x) se chargeant du </a:t>
            </a:r>
            <a:r>
              <a:rPr b="0" i="1" lang="en-GB" sz="3600" spc="-1" strike="noStrike">
                <a:solidFill>
                  <a:srgbClr val="ffffff"/>
                </a:solidFill>
                <a:latin typeface="Arial;Helvetica"/>
              </a:rPr>
              <a:t>garbage collector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 disque sur les IODs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Implémentation des iods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Serveurs IOD: architecture multithreadée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;Helvetica"/>
              </a:rPr>
              <a:t>thread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 pour l'UDP (READ/WRITE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;Helvetica"/>
              </a:rPr>
              <a:t>thread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 pour le TCP (REMOVE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;Helvetica"/>
              </a:rPr>
              <a:t>pool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 de </a:t>
            </a:r>
            <a:r>
              <a:rPr b="0" i="1" lang="en-GB" sz="3200" spc="-1" strike="noStrike">
                <a:solidFill>
                  <a:srgbClr val="ffffff"/>
                </a:solidFill>
                <a:latin typeface="Arial;Helvetica"/>
              </a:rPr>
              <a:t>thread(s)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 d'E/S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2" marL="1079640" indent="-43200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lecture/écriture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2" marL="1079640" indent="-43200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effacement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2" marL="1079640" indent="-43200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génération des réponses </a:t>
            </a:r>
            <a:r>
              <a:rPr b="0" i="1" lang="en-GB" sz="2800" spc="-1" strike="noStrike">
                <a:solidFill>
                  <a:srgbClr val="ffffff"/>
                </a:solidFill>
                <a:latin typeface="Arial;Helvetica"/>
              </a:rPr>
              <a:t>spoofées</a:t>
            </a: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 pour les clients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3" marL="1366920" indent="-432000">
              <a:lnSpc>
                <a:spcPct val="93000"/>
              </a:lnSpc>
              <a:spcAft>
                <a:spcPts val="561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;Helvetica"/>
              </a:rPr>
              <a:t>pile UDP en espace utilisateur au dessus d’un socket RAW</a:t>
            </a:r>
            <a:endParaRPr b="0" lang="en-US" sz="2400" spc="-1" strike="noStrike">
              <a:solidFill>
                <a:srgbClr val="ffffff"/>
              </a:solidFill>
              <a:latin typeface="Arial;Helvetica"/>
            </a:endParaRPr>
          </a:p>
          <a:p>
            <a:pPr lvl="3" marL="1366920" indent="0">
              <a:lnSpc>
                <a:spcPct val="93000"/>
              </a:lnSpc>
              <a:spcAft>
                <a:spcPts val="561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Premiers résultats (1)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Test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fichier d'1GB stocké sur n noeuds d'E/S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plusieurs clients lisent ce fichier en //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0">
              <a:lnSpc>
                <a:spcPct val="93000"/>
              </a:lnSpc>
              <a:spcAft>
                <a:spcPts val="1125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Bande passante cumulée = somme des données transférées / temps total de complétion (en MB/s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Introduction: contexte général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Bef>
                <a:spcPts val="275"/>
              </a:spcBef>
              <a:spcAft>
                <a:spcPts val="1687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Contexte: transferts sur réseaux «rapides»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remplir le «tuyau»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;Helvetica"/>
              </a:rPr>
              <a:t>bottlenecks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 (I/O, réseau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2" marL="1079640" indent="-43200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sur la source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2" marL="1079640" indent="-43200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sur la destination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Bef>
                <a:spcPts val="275"/>
              </a:spcBef>
              <a:spcAft>
                <a:spcPts val="1687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Existence de solutions dédiées a prix (très) élevés... (SAN, NAS, ...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Bef>
                <a:spcPts val="275"/>
              </a:spcBef>
              <a:spcAft>
                <a:spcPts val="1687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Souvent: grappe-à-grappe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Premiers résultats (2)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49400" y="2444760"/>
            <a:ext cx="6964560" cy="4762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49400" y="2000160"/>
            <a:ext cx="785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16 iods / 16 machines clientes / 1 a 16 cli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Premiers résultats (3)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49400" y="2444760"/>
            <a:ext cx="6975360" cy="4770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49400" y="2000160"/>
            <a:ext cx="8107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8 iods / 16 machines clientes / 1 a 32 cli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32320" y="5376600"/>
            <a:ext cx="3305160" cy="683280"/>
            <a:chOff x="5332320" y="5376600"/>
            <a:chExt cx="3305160" cy="683280"/>
          </a:xfrm>
        </p:grpSpPr>
        <p:sp>
          <p:nvSpPr>
            <p:cNvPr id="200" name=""/>
            <p:cNvSpPr/>
            <p:nvPr/>
          </p:nvSpPr>
          <p:spPr>
            <a:xfrm>
              <a:off x="5332320" y="5715360"/>
              <a:ext cx="33037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2320" y="5376600"/>
              <a:ext cx="3305160" cy="6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cache clie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Conclusion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Fonctionne mais encore expérimental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Prototype actuel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performances en lecture (mais plateau vers 50MB/s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limité à 100Mb/s (FastEther) pour l'écriture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2" marL="1079640" indent="-43200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données à écrire doivent passer par le nfspd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2" marL="1079640" indent="-43200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puis renvoyées vers les iods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NFSv2: 2GB, R/W synchrones, blocs&lt;=8KB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Travaux futurs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94800" y="1830240"/>
            <a:ext cx="938556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Réplication des serveurs de MD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Redondance des données (RAIDn&gt;0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Reconfiguration « dynamique »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ajout/suppression de noeuds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Performances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évaluation plus poussée nécessaire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portage NFSv3 (blocs&gt;8KB, fichiers&gt;2GB, ...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passage en mode noyau (?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Contact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ources et documen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</a:rPr>
              <a:t>http://www-id.imag.fr/Logiciel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Slides bonus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938376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Coh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érence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S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écurité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Pannes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Cache client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9966"/>
                </a:solidFill>
                <a:latin typeface="Arial;Helvetica"/>
              </a:rPr>
              <a:t>Coh</a:t>
            </a: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érence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938376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NFS: une fois l’acquittement reçu par le client, celui-ci peut « oublier » la requête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NFSP garantit aussi cela car l’iod renvoit l’acquittement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=&gt; n’implique pas une transaction atomique sur D+MD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9966"/>
                </a:solidFill>
                <a:latin typeface="Arial;Helvetica"/>
              </a:rPr>
              <a:t>S</a:t>
            </a: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écurité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938376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88160" indent="-41904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pas mieux/moins bien qu’avec du NFS standard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488160" indent="-41904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protocole nfspd-iod non s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écurisé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66800" indent="-41868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envisageable d’authentifier les deux entités + clé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marL="488160" indent="-41904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hypothèse: la grappe  est derri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ère un pare-feu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488160" indent="-41904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machines ouvertes sur l’extérieur: aucun </a:t>
            </a:r>
            <a:r>
              <a:rPr b="0" i="1" lang="en-GB" sz="3600" spc="-1" strike="noStrike">
                <a:solidFill>
                  <a:srgbClr val="ffffff"/>
                </a:solidFill>
                <a:latin typeface="Arial;Helvetica"/>
              </a:rPr>
              <a:t>sysadm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 n’utilisera NFS (plutôt AFS ou protos dans du SSL, etc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66800" indent="0">
              <a:lnSpc>
                <a:spcPct val="93000"/>
              </a:lnSpc>
              <a:spcAft>
                <a:spcPts val="112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7680" y="242640"/>
            <a:ext cx="9673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9966"/>
                </a:solidFill>
                <a:latin typeface="Arial;Helvetica"/>
              </a:rPr>
              <a:t>Panne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5160" y="1830240"/>
            <a:ext cx="938376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68000" indent="-40176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Actuellement, hypothèse simplificatrice: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« tout va bien dans le meilleur des mondes » :-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468000" indent="-40176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panne du nfspd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35120" indent="-40140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;Helvetica"/>
              </a:rPr>
              <a:t>clients en attente (d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épend </a:t>
            </a:r>
            <a:r>
              <a:rPr b="0" lang="fr-FR" sz="3200" spc="-1" strike="noStrike">
                <a:solidFill>
                  <a:srgbClr val="ffffff"/>
                </a:solidFill>
                <a:latin typeface="Arial;Helvetica"/>
              </a:rPr>
              <a:t>du montage: soft, intr, hard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35120" indent="-40140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;Helvetica"/>
              </a:rPr>
              <a:t>si red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émarrage: OK (comme un NFSD normal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marL="468000" indent="-40176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;Helvetica"/>
              </a:rPr>
              <a:t>panne d’un iod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35120" indent="-40140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;Helvetica"/>
              </a:rPr>
              <a:t>système est bloqué (du RAID0 actuellement…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35120" indent="-40140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;Helvetica"/>
              </a:rPr>
              <a:t>si red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émarrage: OK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Effets du cache client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49400" y="2444760"/>
            <a:ext cx="6958080" cy="4759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49400" y="2000160"/>
            <a:ext cx="8175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4 iods / 8 machines clientes / 1 a 48 cli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500280" y="6380280"/>
            <a:ext cx="4998960" cy="0"/>
            <a:chOff x="3500280" y="6380280"/>
            <a:chExt cx="4998960" cy="0"/>
          </a:xfrm>
        </p:grpSpPr>
        <p:sp>
          <p:nvSpPr>
            <p:cNvPr id="220" name=""/>
            <p:cNvSpPr/>
            <p:nvPr/>
          </p:nvSpPr>
          <p:spPr>
            <a:xfrm>
              <a:off x="3500280" y="6380280"/>
              <a:ext cx="499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0" y="0"/>
              <a:ext cx="0" cy="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ctr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cache clie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Introduction: contexte local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Grappe ID/HP «I-Cluster»: 225 PCs sous Linux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disques IDE 15GB libres au ¾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Offrir cet espace libre aux utilisateurs ?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transparence utilisateurs &amp; applications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intégration dans l’existant =&gt; NFS (pseudo “SAN”) 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supporté sous Linux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performances avec le parallélisme des E/S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Existant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Plusieurs FS et de stockages distribués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souvent pensés pour utiliser des gros serveurs de stockage (AFS-</a:t>
            </a:r>
            <a:r>
              <a:rPr b="0" i="1" lang="en-GB" sz="3200" spc="-1" strike="noStrike">
                <a:solidFill>
                  <a:srgbClr val="ffffff"/>
                </a:solidFill>
                <a:latin typeface="Arial;Helvetica"/>
              </a:rPr>
              <a:t>like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pas souvent de transparence du nommage/stockage:</a:t>
            </a:r>
            <a:br>
              <a:rPr sz="3200"/>
            </a:b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proto://&lt;dossier|serveur&gt;/fichier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PVFS (PARL - Univ. Clemson)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proche de nos souhaits…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mais: nouveau protocole, nouveau type de FS, problèmes de stabilité au début 2001 ...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Architecture de PVFS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55" name=""/>
          <p:cNvSpPr/>
          <p:nvPr/>
        </p:nvSpPr>
        <p:spPr>
          <a:xfrm>
            <a:off x="3497400" y="4286520"/>
            <a:ext cx="1744560" cy="47052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pvfs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9680" y="2248200"/>
            <a:ext cx="1744560" cy="47052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mg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05840" y="1808640"/>
            <a:ext cx="1744560" cy="47052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io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00920" y="2850120"/>
            <a:ext cx="1744560" cy="47052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io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5" idx="1"/>
            <a:endCxn id="56" idx="1"/>
          </p:cNvCxnSpPr>
          <p:nvPr/>
        </p:nvCxnSpPr>
        <p:spPr>
          <a:xfrm flipV="1">
            <a:off x="3497040" y="2484000"/>
            <a:ext cx="153000" cy="203904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6" idx="2"/>
            <a:endCxn id="55" idx="0"/>
          </p:cNvCxnSpPr>
          <p:nvPr/>
        </p:nvCxnSpPr>
        <p:spPr>
          <a:xfrm flipV="1" rot="10800000">
            <a:off x="4368240" y="2924280"/>
            <a:ext cx="151200" cy="1157400"/>
          </a:xfrm>
          <a:prstGeom prst="curvedConnector5">
            <a:avLst>
              <a:gd name="adj1" fmla="val 49880"/>
              <a:gd name="adj2" fmla="val 50000"/>
              <a:gd name="adj3" fmla="val 49880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8" idx="1"/>
          </p:cNvCxnSpPr>
          <p:nvPr/>
        </p:nvCxnSpPr>
        <p:spPr>
          <a:xfrm flipV="1">
            <a:off x="5241960" y="3083760"/>
            <a:ext cx="2659680" cy="143748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8" idx="2"/>
            <a:endCxn id="55" idx="2"/>
          </p:cNvCxnSpPr>
          <p:nvPr/>
        </p:nvCxnSpPr>
        <p:spPr>
          <a:xfrm flipV="1" rot="10800000">
            <a:off x="4368240" y="3525480"/>
            <a:ext cx="4402800" cy="1437480"/>
          </a:xfrm>
          <a:prstGeom prst="curvedConnector5">
            <a:avLst>
              <a:gd name="adj1" fmla="val 36994"/>
              <a:gd name="adj2" fmla="val 50000"/>
              <a:gd name="adj3" fmla="val 36994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73000" y="4204440"/>
            <a:ext cx="1541520" cy="666360"/>
          </a:xfrm>
          <a:prstGeom prst="roundRect">
            <a:avLst>
              <a:gd name="adj" fmla="val 208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modu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noyau pvf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  <a:endCxn id="55" idx="1"/>
          </p:cNvCxnSpPr>
          <p:nvPr/>
        </p:nvCxnSpPr>
        <p:spPr>
          <a:xfrm flipV="1">
            <a:off x="2413080" y="4520880"/>
            <a:ext cx="1085040" cy="16560"/>
          </a:xfrm>
          <a:prstGeom prst="curvedConnector5">
            <a:avLst>
              <a:gd name="adj1" fmla="val 49983"/>
              <a:gd name="adj2" fmla="val 48888"/>
              <a:gd name="adj3" fmla="val 49983"/>
            </a:avLst>
          </a:prstGeom>
          <a:ln w="54720">
            <a:solidFill>
              <a:srgbClr val="c0c0c0"/>
            </a:solidFill>
            <a:miter/>
            <a:headEnd len="lg" type="triangle" w="lg"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042920" y="5428080"/>
            <a:ext cx="1185840" cy="333720"/>
          </a:xfrm>
          <a:prstGeom prst="roundRect">
            <a:avLst>
              <a:gd name="adj" fmla="val 394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3" idx="2"/>
          </p:cNvCxnSpPr>
          <p:nvPr/>
        </p:nvCxnSpPr>
        <p:spPr>
          <a:xfrm flipV="1" rot="10800000">
            <a:off x="1634400" y="4916160"/>
            <a:ext cx="8640" cy="480240"/>
          </a:xfrm>
          <a:prstGeom prst="curvedConnector5">
            <a:avLst>
              <a:gd name="adj1" fmla="val 47826"/>
              <a:gd name="adj2" fmla="val 49962"/>
              <a:gd name="adj3" fmla="val 47826"/>
            </a:avLst>
          </a:prstGeom>
          <a:ln w="5472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616120" y="4684680"/>
            <a:ext cx="74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ioct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75840" y="4529160"/>
            <a:ext cx="745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TC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3017880"/>
            <a:ext cx="74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TC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4800" y="6224400"/>
            <a:ext cx="938556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Hybrider cette architecture avec un NFSD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: généralités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protocole client-serveur normalisé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client envoie requête au serveur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serveur répond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utilise les SunRPC et le format XDR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existe en TCP et UDP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protocole sans état (=&gt; UDP)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: mini-historique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68000" indent="-40176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Plusieurs versions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35120" indent="-40140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NFSv1: interne à Sun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35120" indent="-40140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NFSv2: 1989 - standard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2" marL="1004040" indent="-40176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E/S synchrones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2" marL="1004040" indent="-40176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blocs de transfert =&gt; 8KB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1" marL="735120" indent="-40140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NFSv3: 1995 - améliorations de NFSv2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2" marL="1004040" indent="-40176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E/S asynchrones avec  « commit » synchronisant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2" marL="1004040" indent="-40176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fichiers &gt;2GB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2" marL="1004040" indent="-401760">
              <a:lnSpc>
                <a:spcPct val="93000"/>
              </a:lnSpc>
              <a:spcAft>
                <a:spcPts val="850"/>
              </a:spcAft>
              <a:buClr>
                <a:srgbClr val="0099ff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;Helvetica"/>
              </a:rPr>
              <a:t>plus gros blocs</a:t>
            </a:r>
            <a:endParaRPr b="0" lang="en-US" sz="2800" spc="-1" strike="noStrike">
              <a:solidFill>
                <a:srgbClr val="ffffff"/>
              </a:solidFill>
              <a:latin typeface="Arial;Helvetica"/>
            </a:endParaRPr>
          </a:p>
          <a:p>
            <a:pPr lvl="1" marL="735120" indent="-40140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NFSv4: plusieurs RFC =&gt; changements (profonds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nfsp: Principe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Paralléliser le serveur </a:t>
            </a:r>
            <a:r>
              <a:rPr b="0" i="1" lang="en-GB" sz="3600" spc="-1" strike="noStrike">
                <a:solidFill>
                  <a:srgbClr val="ffffff"/>
                </a:solidFill>
                <a:latin typeface="Arial;Helvetica"/>
              </a:rPr>
              <a:t>à la</a:t>
            </a:r>
            <a:r>
              <a:rPr b="0" lang="en-GB" sz="3600" spc="-1" strike="noStrike">
                <a:solidFill>
                  <a:srgbClr val="ffffff"/>
                </a:solidFill>
                <a:latin typeface="Arial;Helvetica"/>
              </a:rPr>
              <a:t> PVFS:</a:t>
            </a:r>
            <a:endParaRPr b="0" lang="en-US" sz="36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serveur de métadonnées (nfspd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  <a:p>
            <a:pPr lvl="1" marL="790560" indent="-431640">
              <a:lnSpc>
                <a:spcPct val="93000"/>
              </a:lnSpc>
              <a:spcAft>
                <a:spcPts val="1125"/>
              </a:spcAft>
              <a:buClr>
                <a:srgbClr val="0099ff"/>
              </a:buClr>
              <a:buSzPct val="8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;Helvetica"/>
              </a:rPr>
              <a:t>striping</a:t>
            </a:r>
            <a:r>
              <a:rPr b="0" lang="en-GB" sz="3200" spc="-1" strike="noStrike">
                <a:solidFill>
                  <a:srgbClr val="ffffff"/>
                </a:solidFill>
                <a:latin typeface="Arial;Helvetica"/>
              </a:rPr>
              <a:t> sur les serveurs d'E/S (iods)</a:t>
            </a:r>
            <a:endParaRPr b="0" lang="en-US" sz="3200" spc="-1" strike="noStrike">
              <a:solidFill>
                <a:srgbClr val="ffffff"/>
              </a:solidFill>
              <a:latin typeface="Arial;Helvetica"/>
            </a:endParaRPr>
          </a:p>
        </p:txBody>
      </p:sp>
      <p:sp>
        <p:nvSpPr>
          <p:cNvPr id="77" name=""/>
          <p:cNvSpPr/>
          <p:nvPr/>
        </p:nvSpPr>
        <p:spPr>
          <a:xfrm>
            <a:off x="5183280" y="4237560"/>
            <a:ext cx="1741320" cy="94140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nfsp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("mgr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50320" y="4425480"/>
            <a:ext cx="1741320" cy="47052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io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686800" y="5035320"/>
            <a:ext cx="1741320" cy="47052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io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81" idx="0"/>
            <a:endCxn id="77" idx="2"/>
          </p:cNvCxnSpPr>
          <p:nvPr/>
        </p:nvCxnSpPr>
        <p:spPr>
          <a:xfrm flipH="1" flipV="1" rot="5400000">
            <a:off x="3902400" y="4395960"/>
            <a:ext cx="969120" cy="1593000"/>
          </a:xfrm>
          <a:prstGeom prst="curvedConnector2">
            <a:avLst/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7" idx="5"/>
            <a:endCxn id="79" idx="2"/>
          </p:cNvCxnSpPr>
          <p:nvPr/>
        </p:nvCxnSpPr>
        <p:spPr>
          <a:xfrm flipH="1" rot="16200000">
            <a:off x="7563960" y="4148640"/>
            <a:ext cx="226080" cy="2018160"/>
          </a:xfrm>
          <a:prstGeom prst="curvedConnector2">
            <a:avLst/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9" idx="4"/>
            <a:endCxn id="81" idx="3"/>
          </p:cNvCxnSpPr>
          <p:nvPr/>
        </p:nvCxnSpPr>
        <p:spPr>
          <a:xfrm rot="5400000">
            <a:off x="6706440" y="3165480"/>
            <a:ext cx="505440" cy="5198040"/>
          </a:xfrm>
          <a:prstGeom prst="curvedConnector2">
            <a:avLst/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819520" y="5683320"/>
            <a:ext cx="1541520" cy="666360"/>
          </a:xfrm>
          <a:prstGeom prst="roundRect">
            <a:avLst>
              <a:gd name="adj" fmla="val 208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modu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noyau nf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6662520"/>
            <a:ext cx="1185840" cy="333720"/>
          </a:xfrm>
          <a:prstGeom prst="roundRect">
            <a:avLst>
              <a:gd name="adj" fmla="val 394"/>
            </a:avLst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1" idx="2"/>
            <a:endCxn id="84" idx="3"/>
          </p:cNvCxnSpPr>
          <p:nvPr/>
        </p:nvCxnSpPr>
        <p:spPr>
          <a:xfrm rot="5400000">
            <a:off x="2913120" y="6152400"/>
            <a:ext cx="473760" cy="882000"/>
          </a:xfrm>
          <a:prstGeom prst="curvedConnector2">
            <a:avLst/>
          </a:prstGeom>
          <a:ln w="5472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781680" y="6095880"/>
            <a:ext cx="74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U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8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899480" y="3679920"/>
            <a:ext cx="2495520" cy="7858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15240" y="2629080"/>
            <a:ext cx="2530440" cy="7952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6280" y="2355840"/>
            <a:ext cx="2143080" cy="30812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31920" y="2324160"/>
            <a:ext cx="2265480" cy="30812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7320" y="243000"/>
            <a:ext cx="9675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;Helvetica"/>
              </a:rPr>
              <a:t>(méta)-données &amp; </a:t>
            </a:r>
            <a:r>
              <a:rPr b="0" i="1" lang="en-GB" sz="4400" spc="-1" strike="noStrike">
                <a:solidFill>
                  <a:srgbClr val="ff9966"/>
                </a:solidFill>
                <a:latin typeface="Arial;Helvetica"/>
              </a:rPr>
              <a:t>striping</a:t>
            </a:r>
            <a:endParaRPr b="0" lang="en-US" sz="4400" spc="-1" strike="noStrike">
              <a:solidFill>
                <a:srgbClr val="ff9966"/>
              </a:solidFill>
              <a:latin typeface="Arial;Helvetic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94800" y="1829880"/>
            <a:ext cx="93855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            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0720" y="3775680"/>
            <a:ext cx="884160" cy="1331640"/>
          </a:xfrm>
          <a:custGeom>
            <a:avLst/>
            <a:gdLst>
              <a:gd name="textAreaLeft" fmla="*/ 360 w 884160"/>
              <a:gd name="textAreaRight" fmla="*/ 883800 w 884160"/>
              <a:gd name="textAreaTop" fmla="*/ 360 h 1331640"/>
              <a:gd name="textAreaBottom" fmla="*/ 1331280 h 1331640"/>
            </a:gdLst>
            <a:ahLst/>
            <a:rect l="textAreaLeft" t="textAreaTop" r="textAreaRight" b="textAreaBottom"/>
            <a:pathLst>
              <a:path w="21600" h="32527">
                <a:moveTo>
                  <a:pt x="38" y="0"/>
                </a:moveTo>
                <a:arcTo wR="38" hR="38" stAng="16200000" swAng="-5400000"/>
                <a:lnTo>
                  <a:pt x="0" y="32489"/>
                </a:lnTo>
                <a:arcTo wR="38" hR="38" stAng="10800000" swAng="-5400000"/>
                <a:lnTo>
                  <a:pt x="21562" y="32527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2680" y="3875760"/>
            <a:ext cx="884160" cy="333000"/>
          </a:xfrm>
          <a:prstGeom prst="roundRect">
            <a:avLst>
              <a:gd name="adj" fmla="val 366"/>
            </a:avLst>
          </a:pr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13680" y="2885400"/>
            <a:ext cx="884160" cy="333000"/>
          </a:xfrm>
          <a:prstGeom prst="roundRect">
            <a:avLst>
              <a:gd name="adj" fmla="val 366"/>
            </a:avLst>
          </a:pr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9680" y="2885400"/>
            <a:ext cx="884160" cy="333000"/>
          </a:xfrm>
          <a:prstGeom prst="roundRect">
            <a:avLst>
              <a:gd name="adj" fmla="val 366"/>
            </a:avLst>
          </a:pr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36560" y="2808000"/>
            <a:ext cx="1457640" cy="665640"/>
          </a:xfrm>
          <a:prstGeom prst="roundRect">
            <a:avLst>
              <a:gd name="adj" fmla="val 171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nom: to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taille: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9560" y="3201480"/>
            <a:ext cx="1668600" cy="665640"/>
          </a:xfrm>
          <a:prstGeom prst="roundRect">
            <a:avLst>
              <a:gd name="adj" fmla="val 171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nom: to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taille: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60680" y="6956280"/>
            <a:ext cx="1755720" cy="333720"/>
          </a:xfrm>
          <a:prstGeom prst="roundRect">
            <a:avLst>
              <a:gd name="adj" fmla="val 444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métadonné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6720" y="6957000"/>
            <a:ext cx="1014120" cy="333720"/>
          </a:xfrm>
          <a:prstGeom prst="roundRect">
            <a:avLst>
              <a:gd name="adj" fmla="val 44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donné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8800" y="6864840"/>
            <a:ext cx="231912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mach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3962520"/>
            <a:ext cx="990720" cy="0"/>
          </a:xfrm>
          <a:prstGeom prst="line">
            <a:avLst/>
          </a:prstGeom>
          <a:ln w="1461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5640" y="1812960"/>
            <a:ext cx="192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serveur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1523880"/>
            <a:ext cx="218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serveurs distribué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89040" y="6117120"/>
            <a:ext cx="165888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77000" y="6154560"/>
            <a:ext cx="1658880" cy="470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cli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6" idx="1"/>
            <a:endCxn id="89" idx="2"/>
          </p:cNvCxnSpPr>
          <p:nvPr/>
        </p:nvCxnSpPr>
        <p:spPr>
          <a:xfrm rot="10800000">
            <a:off x="6226920" y="5436360"/>
            <a:ext cx="550080" cy="953280"/>
          </a:xfrm>
          <a:prstGeom prst="curvedConnector5">
            <a:avLst>
              <a:gd name="adj1" fmla="val 107793"/>
              <a:gd name="adj2" fmla="val 49981"/>
              <a:gd name="adj3" fmla="val 107793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87" idx="2"/>
            <a:endCxn id="106" idx="3"/>
          </p:cNvCxnSpPr>
          <p:nvPr/>
        </p:nvCxnSpPr>
        <p:spPr>
          <a:xfrm flipH="1">
            <a:off x="8434080" y="4463640"/>
            <a:ext cx="713520" cy="1926360"/>
          </a:xfrm>
          <a:prstGeom prst="curvedConnector5">
            <a:avLst>
              <a:gd name="adj1" fmla="val -5754"/>
              <a:gd name="adj2" fmla="val 50000"/>
              <a:gd name="adj3" fmla="val -5754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5" idx="1"/>
            <a:endCxn id="90" idx="1"/>
          </p:cNvCxnSpPr>
          <p:nvPr/>
        </p:nvCxnSpPr>
        <p:spPr>
          <a:xfrm rot="10800000">
            <a:off x="1231200" y="3864960"/>
            <a:ext cx="357840" cy="2486520"/>
          </a:xfrm>
          <a:prstGeom prst="curvedConnector5">
            <a:avLst>
              <a:gd name="adj1" fmla="val 187512"/>
              <a:gd name="adj2" fmla="val 50000"/>
              <a:gd name="adj3" fmla="val 187512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0" idx="3"/>
            <a:endCxn id="105" idx="3"/>
          </p:cNvCxnSpPr>
          <p:nvPr/>
        </p:nvCxnSpPr>
        <p:spPr>
          <a:xfrm flipV="1" rot="10800000">
            <a:off x="3245760" y="3865320"/>
            <a:ext cx="249840" cy="248652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89" idx="3"/>
            <a:endCxn id="87" idx="1"/>
          </p:cNvCxnSpPr>
          <p:nvPr/>
        </p:nvCxnSpPr>
        <p:spPr>
          <a:xfrm>
            <a:off x="7299000" y="3895560"/>
            <a:ext cx="602280" cy="177120"/>
          </a:xfrm>
          <a:prstGeom prst="curvedConnector5">
            <a:avLst>
              <a:gd name="adj1" fmla="val 50000"/>
              <a:gd name="adj2" fmla="val 49898"/>
              <a:gd name="adj3" fmla="val 50000"/>
            </a:avLst>
          </a:prstGeom>
          <a:ln w="547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4799880" y="2362320"/>
            <a:ext cx="473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M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210320" y="2286000"/>
            <a:ext cx="212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134000" y="4495680"/>
            <a:ext cx="212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66"/>
                </a:solidFill>
                <a:latin typeface="Times New Roman"/>
                <a:ea typeface="HG Mincho Light J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D</cp:lastModifiedBy>
  <cp:lastPrinted>2002-04-08T08:06:20Z</cp:lastPrinted>
  <dcterms:modified xsi:type="dcterms:W3CDTF">2002-04-10T13:00:02Z</dcterms:modified>
  <cp:revision>29</cp:revision>
  <dc:subject/>
  <dc:title>NFSP: serveur NFS distribué pour grappes de PCs</dc:title>
</cp:coreProperties>
</file>